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0C0-8CE5-4497-BFD1-21F0968C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652-D3DB-4141-8DC1-00C541F7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91B-EEC7-4CEE-9E7B-4DFBCC08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9D1-9C63-4326-B484-EC9631BC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F48B-2EE5-4E54-B466-4EE4E73D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2042-603C-4DDC-9580-D609A8D4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B9FF-1D35-4A39-8A37-9E415143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1FBA-365A-4847-97B9-0BA8767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52BC-B469-40EE-9B34-DC5B68A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B957-17D3-4816-A6E5-E40E3604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D84-8FD4-4C0F-A44C-1F70C05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5EE-A3D2-4B52-99EC-9791FD3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E8C3-A651-4EFD-BE98-0AA9049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F2DD-BB3D-4E4A-A71A-44EF81A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3A63-ED2A-470A-BBCF-1A793A2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F6DD-362E-40EE-B7B6-D07D86A3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70E4-DBC9-4210-834A-0C2001A1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180-D103-4541-820D-299D93B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665-54A4-447C-B49D-8211926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B0A-285B-4531-A77F-BBF7A54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0B4-860D-422B-BA09-97574E3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CD2-5987-420F-8153-B8626390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4E2-B657-4A00-950D-216C8F6A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ADC-6E09-46AB-94AE-7241F93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2BF6-868C-4BD6-BD7D-C04EDE4389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792-77F2-4915-BB30-28563DCDAB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C:/Documents%20and%20Settings/Thiago/Desktop/Planejamento_2008/Plano%20de%20Projeto.xls" TargetMode="External"/><Relationship Id="rId12" Type="http://schemas.openxmlformats.org/officeDocument/2006/relationships/hyperlink" Target="file:///C:/Documents%20and%20Settings/Thiago/Desktop/Planejamento_2008/Planejamento_Global_Gastos.xls" TargetMode="External"/><Relationship Id="rId13" Type="http://schemas.openxmlformats.org/officeDocument/2006/relationships/hyperlink" Target="file:///C:/Documents%20and%20Settings/Thiago/Desktop/Planejamento_2008/Planejamento_Suprimentos.xls" TargetMode="External"/><Relationship Id="rId14" Type="http://schemas.openxmlformats.org/officeDocument/2006/relationships/hyperlink" Target="file:///C:/Documents%20and%20Settings/Thiago/Desktop/Planejamento_2008/Planejamento_Suprimentos.xls" TargetMode="External"/><Relationship Id="rId15" Type="http://schemas.openxmlformats.org/officeDocument/2006/relationships/hyperlink" Target="file:///C:/Documents%20and%20Settings/Thiago/Desktop/Planejamento_2008/Planejamento_Suprimentos.xls" TargetMode="External"/><Relationship Id="rId1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C:/Documents%20and%20Settings/Thiago/Desktop/Planejamento_2008/Setor%20Solicitante%20v04.xls" TargetMode="External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152280"/>
            <a:ext cx="8382240" cy="243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9080" y="404640"/>
            <a:ext cx="396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SÃO: Tornar MG o melhor estado para se v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56200" y="83664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Arial"/>
              </a:rPr>
              <a:t>REULTADOS PARA A SOCIE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9080" y="1125360"/>
            <a:ext cx="792000" cy="64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1080" y="1125360"/>
            <a:ext cx="792000" cy="64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3080" y="1125360"/>
            <a:ext cx="79236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5440" y="1125360"/>
            <a:ext cx="792000" cy="64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7440" y="1125360"/>
            <a:ext cx="79236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5680" y="112536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Á R E A S  D E  R E S U L T A D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9080" y="1774800"/>
            <a:ext cx="396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S ESTRUTUR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72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1308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8000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4836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2205000"/>
            <a:ext cx="6264360" cy="21600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Arial"/>
              </a:rPr>
              <a:t>CADERNOS: Metas e estratégia de implementação (por Secret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189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tratégia Governamen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MDI - PP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2708280"/>
            <a:ext cx="8353440" cy="2592360"/>
          </a:xfrm>
          <a:prstGeom prst="rect">
            <a:avLst/>
          </a:prstGeom>
          <a:noFill/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0800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17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Estrutura Governamental e Modelo de gestã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2852640"/>
            <a:ext cx="863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OV/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784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8620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2472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5840" y="3214800"/>
            <a:ext cx="290520" cy="358560"/>
          </a:xfrm>
          <a:prstGeom prst="downArrow">
            <a:avLst>
              <a:gd name="adj1" fmla="val 50000"/>
              <a:gd name="adj2" fmla="val 30855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81280"/>
            <a:ext cx="55432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3141720"/>
            <a:ext cx="16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AR – 1ª Et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Sistema Oper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72560" y="414972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AR – 2ª Et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268360" y="5170320"/>
            <a:ext cx="5040" cy="4194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3528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636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2000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24360" y="4508640"/>
            <a:ext cx="100836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45164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7920"/>
            <a:ext cx="9144000" cy="6858000"/>
          </a:xfrm>
          <a:prstGeom prst="rect">
            <a:avLst/>
          </a:prstGeom>
          <a:solidFill>
            <a:srgbClr val="cc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81360" y="2595600"/>
            <a:ext cx="6913440" cy="1120680"/>
          </a:xfrm>
          <a:solidFill>
            <a:srgbClr val="339933"/>
          </a:solidFill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de Pes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valiação de Desempenh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5445000"/>
            <a:ext cx="8353440" cy="12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77164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292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5796000" y="593424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7091280" y="5942160"/>
            <a:ext cx="936720" cy="2952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5280" y="5452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Gestã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Pesso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ADI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Prêm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0800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589720"/>
            <a:ext cx="71892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1636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9440" y="5589720"/>
            <a:ext cx="71892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48436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85128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36400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80400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7236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0072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3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3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3280" y="404640"/>
            <a:ext cx="83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d4d4d"/>
                </a:solidFill>
                <a:latin typeface="Century Gothic"/>
              </a:rPr>
              <a:t>Fluxograma de Atualização das Informações dos Projetos e Solicitação de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24000" y="1706400"/>
            <a:ext cx="8280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tende-se com a proposta a ser apresent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fluxo de informações sobre os projetos em andamento n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er uma linha única de so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a qualidade do gasto, demonstrando de maneira clara o objetivo de cada aquisição e solicitação d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24000" y="170640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lanejamento de 2008 inicia-se com o preenchimento de três documentos: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lano de Projetos Resumido (Associados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 Planejamento Global de Gas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lanejamento de Suprimentos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estruturadores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o preenchimento destes documentos, inicia-se a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rotina de solicitações e monitoramento das m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grama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179280" y="1557360"/>
            <a:ext cx="8785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solicitações de informação sobre os projetos e as solicitações financeiras deverão ser enviadas à Sup. Planejamento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até o quinto dia útil de cada mê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t-BR" sz="2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(RELATÓRIO SITUA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ão preenchimento da planilha ou atraso na entreg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rá causar o atraso em processos de compra e na liberação de orçamento para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diant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sponsáveis pelas ações passam a ser os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ORDENADORES DE DESPES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mes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82560" y="4017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 Mensal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08000" y="981000"/>
            <a:ext cx="2663640" cy="897120"/>
            <a:chOff x="108000" y="981000"/>
            <a:chExt cx="2663640" cy="897120"/>
          </a:xfrm>
        </p:grpSpPr>
        <p:pic>
          <p:nvPicPr>
            <p:cNvPr id="438" name="" descr=""/>
            <p:cNvPicPr/>
            <p:nvPr/>
          </p:nvPicPr>
          <p:blipFill>
            <a:blip r:embed="rId9"/>
            <a:stretch/>
          </p:blipFill>
          <p:spPr>
            <a:xfrm rot="5400000">
              <a:off x="115128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08000" y="1052640"/>
              <a:ext cx="266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etor Solici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24000" y="3732120"/>
            <a:ext cx="1828800" cy="1484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eench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lanilh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2263680"/>
            <a:ext cx="182880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een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Formul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e Solic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216080" y="32288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44520" y="52023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916360" y="981000"/>
            <a:ext cx="2663640" cy="531360"/>
            <a:chOff x="2916360" y="981000"/>
            <a:chExt cx="2663640" cy="531360"/>
          </a:xfrm>
        </p:grpSpPr>
        <p:pic>
          <p:nvPicPr>
            <p:cNvPr id="445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395964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291636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P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132000" y="3732120"/>
            <a:ext cx="1828800" cy="105264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alida co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ogra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226368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24440" y="32288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16360" y="5288040"/>
            <a:ext cx="2519280" cy="12970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caminh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 SURL (comp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u SUC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diárias e convên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52880" y="47847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71640" y="1989000"/>
            <a:ext cx="0" cy="48690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54" idx="3"/>
            <a:endCxn id="448" idx="1"/>
          </p:cNvCxnSpPr>
          <p:nvPr/>
        </p:nvCxnSpPr>
        <p:spPr>
          <a:xfrm flipV="1">
            <a:off x="2499840" y="2731680"/>
            <a:ext cx="632520" cy="3471120"/>
          </a:xfrm>
          <a:prstGeom prst="bentConnector3">
            <a:avLst>
              <a:gd name="adj1" fmla="val 276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0" idx="3"/>
            <a:endCxn id="456" idx="1"/>
          </p:cNvCxnSpPr>
          <p:nvPr/>
        </p:nvCxnSpPr>
        <p:spPr>
          <a:xfrm flipV="1">
            <a:off x="5435280" y="2457000"/>
            <a:ext cx="649800" cy="3480480"/>
          </a:xfrm>
          <a:prstGeom prst="bentConnector3">
            <a:avLst>
              <a:gd name="adj1" fmla="val 498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7" name=""/>
          <p:cNvGrpSpPr/>
          <p:nvPr/>
        </p:nvGrpSpPr>
        <p:grpSpPr>
          <a:xfrm>
            <a:off x="5869080" y="981000"/>
            <a:ext cx="2663640" cy="531360"/>
            <a:chOff x="5869080" y="981000"/>
            <a:chExt cx="2663640" cy="531360"/>
          </a:xfrm>
        </p:grpSpPr>
        <p:pic>
          <p:nvPicPr>
            <p:cNvPr id="458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691236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86908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84720" y="198900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heck-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916280"/>
            <a:ext cx="0" cy="49417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3884760"/>
            <a:ext cx="2447640" cy="360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onta 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292428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940000" y="3213000"/>
            <a:ext cx="2664360" cy="531360"/>
            <a:chOff x="5940000" y="3213000"/>
            <a:chExt cx="2664360" cy="531360"/>
          </a:xfrm>
        </p:grpSpPr>
        <p:pic>
          <p:nvPicPr>
            <p:cNvPr id="464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6983640" y="2169000"/>
              <a:ext cx="5050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940360" y="328464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38040" y="1483560"/>
            <a:ext cx="5997960" cy="779760"/>
            <a:chOff x="1238040" y="1483560"/>
            <a:chExt cx="5997960" cy="779760"/>
          </a:xfrm>
        </p:grpSpPr>
        <p:sp>
          <p:nvSpPr>
            <p:cNvPr id="467" name=""/>
            <p:cNvSpPr/>
            <p:nvPr/>
          </p:nvSpPr>
          <p:spPr>
            <a:xfrm>
              <a:off x="1403280" y="1483560"/>
              <a:ext cx="58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m caso de Falta de Documento Retorna ao Solicit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41" idx="0"/>
              <a:endCxn id="456" idx="0"/>
            </p:cNvCxnSpPr>
            <p:nvPr/>
          </p:nvCxnSpPr>
          <p:spPr>
            <a:xfrm flipH="1" flipV="1" rot="5400000">
              <a:off x="4064400" y="-838080"/>
              <a:ext cx="275400" cy="5928120"/>
            </a:xfrm>
            <a:prstGeom prst="bentConnector3">
              <a:avLst>
                <a:gd name="adj1" fmla="val 176832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69" name=""/>
          <p:cNvSpPr/>
          <p:nvPr/>
        </p:nvSpPr>
        <p:spPr>
          <a:xfrm>
            <a:off x="5925960" y="4537080"/>
            <a:ext cx="2737080" cy="576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voca o </a:t>
            </a:r>
            <a:r>
              <a:rPr b="1" lang="en-US" sz="2000" spc="-1" strike="noStrike">
                <a:solidFill>
                  <a:srgbClr val="ff0000"/>
                </a:solidFill>
                <a:latin typeface="Segoe Semibold"/>
              </a:rPr>
              <a:t>Solic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o Preg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49960" y="42642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40360" y="5445000"/>
            <a:ext cx="2737080" cy="1224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Homolog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irigente e In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valor da comp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a SU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36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58920" y="1700280"/>
            <a:ext cx="7597800" cy="3241440"/>
          </a:xfrm>
          <a:prstGeom prst="wedgeRoundRectCallout">
            <a:avLst>
              <a:gd name="adj1" fmla="val -41078"/>
              <a:gd name="adj2" fmla="val 71694"/>
              <a:gd name="adj3" fmla="val 16667"/>
            </a:avLst>
          </a:prstGeom>
          <a:gradFill rotWithShape="0">
            <a:gsLst>
              <a:gs pos="0">
                <a:srgbClr val="cc82cc"/>
              </a:gs>
              <a:gs pos="50000">
                <a:srgbClr val="990099"/>
              </a:gs>
              <a:gs pos="100000">
                <a:srgbClr val="cc82cc"/>
              </a:gs>
            </a:gsLst>
            <a:lin ang="135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O Formulário deverá ser enviado p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Gerente ou Adjunto (Estruturador) ou p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Responsável pela ação (Associados) devid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assinado até 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5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º dia útil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. Caso hajam comp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ou convênios que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devam se iniciar 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no mê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em questão, o formulário deverá ser encaminh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com 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Termo de Referência ou Pl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de Trabalho com justificativa preenchido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3840" y="5734080"/>
            <a:ext cx="237636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para a SUP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Formul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e Solic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682560" y="4017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 Mensal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08000" y="981000"/>
            <a:ext cx="2663640" cy="531360"/>
            <a:chOff x="108000" y="981000"/>
            <a:chExt cx="2663640" cy="531360"/>
          </a:xfrm>
        </p:grpSpPr>
        <p:pic>
          <p:nvPicPr>
            <p:cNvPr id="485" name="" descr=""/>
            <p:cNvPicPr/>
            <p:nvPr/>
          </p:nvPicPr>
          <p:blipFill>
            <a:blip r:embed="rId9"/>
            <a:stretch/>
          </p:blipFill>
          <p:spPr>
            <a:xfrm rot="5400000">
              <a:off x="115128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0800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24000" y="3718080"/>
            <a:ext cx="182880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para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2205000"/>
            <a:ext cx="182880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oc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Homolo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16080" y="317016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16360" y="981000"/>
            <a:ext cx="2663640" cy="531360"/>
            <a:chOff x="2916360" y="981000"/>
            <a:chExt cx="2663640" cy="531360"/>
          </a:xfrm>
        </p:grpSpPr>
        <p:pic>
          <p:nvPicPr>
            <p:cNvPr id="491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395964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91636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246480" y="2952720"/>
            <a:ext cx="1828800" cy="7635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fere c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 empe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32000" y="171756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11640" y="265428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59200" y="4308480"/>
            <a:ext cx="2519280" cy="12970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caminh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 SUR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Patrim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lmoxarif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83200" y="37623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71640" y="1989000"/>
            <a:ext cx="0" cy="48690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87" idx="3"/>
            <a:endCxn id="494" idx="1"/>
          </p:cNvCxnSpPr>
          <p:nvPr/>
        </p:nvCxnSpPr>
        <p:spPr>
          <a:xfrm flipV="1">
            <a:off x="2152800" y="2185560"/>
            <a:ext cx="979920" cy="2000880"/>
          </a:xfrm>
          <a:prstGeom prst="bentConnector3">
            <a:avLst>
              <a:gd name="adj1" fmla="val 4990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6" idx="3"/>
            <a:endCxn id="501" idx="1"/>
          </p:cNvCxnSpPr>
          <p:nvPr/>
        </p:nvCxnSpPr>
        <p:spPr>
          <a:xfrm flipV="1">
            <a:off x="5478480" y="2493720"/>
            <a:ext cx="606960" cy="2464560"/>
          </a:xfrm>
          <a:prstGeom prst="bentConnector3">
            <a:avLst>
              <a:gd name="adj1" fmla="val 4973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02" name=""/>
          <p:cNvGrpSpPr/>
          <p:nvPr/>
        </p:nvGrpSpPr>
        <p:grpSpPr>
          <a:xfrm>
            <a:off x="5869080" y="981000"/>
            <a:ext cx="2663640" cy="531360"/>
            <a:chOff x="5869080" y="981000"/>
            <a:chExt cx="2663640" cy="531360"/>
          </a:xfrm>
        </p:grpSpPr>
        <p:pic>
          <p:nvPicPr>
            <p:cNvPr id="503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691236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86908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84720" y="2133720"/>
            <a:ext cx="2160720" cy="718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tr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916280"/>
            <a:ext cx="0" cy="49417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64360" y="2852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866920" y="1557360"/>
            <a:ext cx="2664360" cy="531000"/>
            <a:chOff x="5866920" y="1557360"/>
            <a:chExt cx="2664360" cy="531000"/>
          </a:xfrm>
        </p:grpSpPr>
        <p:pic>
          <p:nvPicPr>
            <p:cNvPr id="50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6910560" y="513360"/>
              <a:ext cx="504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867280" y="162864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P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925960" y="3213000"/>
            <a:ext cx="2737080" cy="1224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voca o </a:t>
            </a:r>
            <a:r>
              <a:rPr b="1" lang="en-US" sz="2000" spc="-1" strike="noStrike">
                <a:solidFill>
                  <a:srgbClr val="ff0000"/>
                </a:solidFill>
                <a:latin typeface="Segoe Semibold"/>
              </a:rPr>
              <a:t>Solic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confer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ercadoria e at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not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40360" y="4797360"/>
            <a:ext cx="2737080" cy="432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Libera 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4360" y="44514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11" idx="2"/>
            <a:endCxn id="514" idx="3"/>
          </p:cNvCxnSpPr>
          <p:nvPr/>
        </p:nvCxnSpPr>
        <p:spPr>
          <a:xfrm rot="5400000">
            <a:off x="5956200" y="4779000"/>
            <a:ext cx="902160" cy="1802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2987640" y="5950080"/>
            <a:ext cx="2519280" cy="360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ga e Arqu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2400" y="1555920"/>
            <a:ext cx="2663640" cy="531000"/>
            <a:chOff x="122400" y="1555920"/>
            <a:chExt cx="2663640" cy="531000"/>
          </a:xfrm>
        </p:grpSpPr>
        <p:pic>
          <p:nvPicPr>
            <p:cNvPr id="516" name="" descr=""/>
            <p:cNvPicPr/>
            <p:nvPr/>
          </p:nvPicPr>
          <p:blipFill>
            <a:blip r:embed="rId13"/>
            <a:stretch/>
          </p:blipFill>
          <p:spPr>
            <a:xfrm rot="5400000">
              <a:off x="1166040" y="511920"/>
              <a:ext cx="50472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22400" y="162720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324000" y="148428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s as solicitações serão comparadas com o planejamento anual das atividades. Em caso de divergência, estouro de orçamento e/ou não cumprimento dos prazos, o responsável pela ação será acionado pela SUPM para revisão do planejamento da 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836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13622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4d4d4d"/>
                </a:solidFill>
                <a:latin typeface="Century Gothic"/>
              </a:rPr>
              <a:t>Itens Maior Impac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042920" y="234936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mento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grama de Atualização das Informações dos Projetos Estruturadores, Associados e Convênios e Solicitação de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tens de Maior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3874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Data: 18.02.08 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404640"/>
            <a:ext cx="83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d4d4d"/>
                </a:solidFill>
                <a:latin typeface="Century Gothic"/>
              </a:rPr>
              <a:t>Fluxograma de Atualização das Informações dos Projetos e Solicitação de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rcRect l="0" t="-4185" r="-3407" b="0"/>
          <a:stretch/>
        </p:blipFill>
        <p:spPr>
          <a:xfrm>
            <a:off x="5504040" y="4460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13320" y="5238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278840" y="450720"/>
            <a:ext cx="718920" cy="31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8101080" y="2728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83240" y="407880"/>
          <a:ext cx="67284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240" y="40788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16000" y="765000"/>
            <a:ext cx="78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Tahoma"/>
              </a:rPr>
              <a:t>Estado para Resultados</a:t>
            </a:r>
            <a:br>
              <a:rPr sz="2800"/>
            </a:br>
            <a:r>
              <a:rPr b="1" lang="pt-BR" sz="2800" spc="-1" strike="noStrike">
                <a:solidFill>
                  <a:srgbClr val="006666"/>
                </a:solidFill>
                <a:latin typeface="Tahoma"/>
              </a:rPr>
              <a:t>Compromiss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620720"/>
            <a:ext cx="87854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lidade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quilíbrio fiscal como pressuposto da ação gov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evação do investimento estratégico, simplificação e descom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Gestão Efici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Ênfase setorial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qualidade e  produtividade do gasto setorial e  atendimento a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mento e avaliaçã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sempenho do Governo mensurado pela evolução dos indicadores finalíst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nç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ordenação de Governo por Áreas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ordo de resultado do órgão  contratualiza  as Áreas de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17880" y="1814400"/>
            <a:ext cx="1162080" cy="1016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35040" y="2960640"/>
            <a:ext cx="6151680" cy="109080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LANEJAMENTO E GESTÃO (CURTO E MÉDIO PRAZ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01760" y="5950080"/>
            <a:ext cx="6573960" cy="72864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ERSPECTIVA DOS EIXOS DE ATUAÇÃO POR DESTINAT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1360" y="928800"/>
            <a:ext cx="5819760" cy="87300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ERSPECTIVA D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LONGO P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40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88360" y="981000"/>
            <a:ext cx="13665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161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167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170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5680" y="2990880"/>
            <a:ext cx="6199200" cy="190188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DEFINE OBJETIVOS, INDICADORES E PROJETOS DE ALTO 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566560" y="6209280"/>
            <a:ext cx="193320" cy="192600"/>
            <a:chOff x="8566560" y="6209280"/>
            <a:chExt cx="193320" cy="192600"/>
          </a:xfrm>
        </p:grpSpPr>
        <p:sp>
          <p:nvSpPr>
            <p:cNvPr id="176" name=""/>
            <p:cNvSpPr/>
            <p:nvPr/>
          </p:nvSpPr>
          <p:spPr>
            <a:xfrm flipH="1" rot="19438800">
              <a:off x="8592840" y="623700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622720" y="6249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582400" y="1854720"/>
            <a:ext cx="193320" cy="192600"/>
            <a:chOff x="8582400" y="1854720"/>
            <a:chExt cx="193320" cy="192600"/>
          </a:xfrm>
        </p:grpSpPr>
        <p:sp>
          <p:nvSpPr>
            <p:cNvPr id="179" name=""/>
            <p:cNvSpPr/>
            <p:nvPr/>
          </p:nvSpPr>
          <p:spPr>
            <a:xfrm flipH="1" rot="19438800">
              <a:off x="8608680" y="1882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638560" y="1895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85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88360" y="981000"/>
            <a:ext cx="13665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1258920" y="303372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Educação d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1258920" y="4329000"/>
            <a:ext cx="1405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Protagonismo Juve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1258920" y="368136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Vida Saudá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4560" y="3033720"/>
            <a:ext cx="1621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Investimento e Valor Agregado da 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4560" y="3681360"/>
            <a:ext cx="1621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Inovação, Tecnologia 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4329000"/>
            <a:ext cx="1621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Logística de Integração 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033720"/>
            <a:ext cx="1404720" cy="863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Redução da Pobreza e Inclusão Prod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4329000"/>
            <a:ext cx="1405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Defesa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303372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Rede de Cidades e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368136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Qualidade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81520" y="4041720"/>
            <a:ext cx="1446120" cy="792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Desenvolvimento do Norte de Minas,  Jequitinhonha, Mucuri e Rio Do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218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224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227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8572320" y="6236280"/>
            <a:ext cx="193680" cy="192960"/>
            <a:chOff x="8572320" y="6236280"/>
            <a:chExt cx="193680" cy="192960"/>
          </a:xfrm>
        </p:grpSpPr>
        <p:sp>
          <p:nvSpPr>
            <p:cNvPr id="230" name=""/>
            <p:cNvSpPr/>
            <p:nvPr/>
          </p:nvSpPr>
          <p:spPr>
            <a:xfrm flipH="1" rot="19438800">
              <a:off x="8598960" y="6264360"/>
              <a:ext cx="14004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8628840" y="6276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588880" y="1881720"/>
            <a:ext cx="193320" cy="192600"/>
            <a:chOff x="8588880" y="1881720"/>
            <a:chExt cx="193320" cy="192600"/>
          </a:xfrm>
        </p:grpSpPr>
        <p:sp>
          <p:nvSpPr>
            <p:cNvPr id="233" name=""/>
            <p:cNvSpPr/>
            <p:nvPr/>
          </p:nvSpPr>
          <p:spPr>
            <a:xfrm flipH="1" rot="19438800">
              <a:off x="8615160" y="1909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645040" y="1922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3"/>
          <a:srcRect l="0" t="-4185" r="-3407" b="0"/>
          <a:stretch/>
        </p:blipFill>
        <p:spPr>
          <a:xfrm>
            <a:off x="5504040" y="4460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313320" y="5238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278840" y="450720"/>
            <a:ext cx="71892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8101080" y="2728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83240" y="407880"/>
          <a:ext cx="67284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240" y="40788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"/>
          <p:cNvGrpSpPr/>
          <p:nvPr/>
        </p:nvGrpSpPr>
        <p:grpSpPr>
          <a:xfrm>
            <a:off x="4287960" y="1163520"/>
            <a:ext cx="4824360" cy="3672000"/>
            <a:chOff x="4287960" y="1163520"/>
            <a:chExt cx="4824360" cy="3672000"/>
          </a:xfrm>
        </p:grpSpPr>
        <p:sp>
          <p:nvSpPr>
            <p:cNvPr id="246" name=""/>
            <p:cNvSpPr/>
            <p:nvPr/>
          </p:nvSpPr>
          <p:spPr>
            <a:xfrm>
              <a:off x="4582800" y="1341000"/>
              <a:ext cx="4152240" cy="13629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SULTADOS FINALÍST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CADERNO DE COMPROMISSO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81360" y="2821680"/>
              <a:ext cx="2015280" cy="10065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JE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STRUTURADOR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9400" y="2821680"/>
              <a:ext cx="2015640" cy="10065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GENDA SETOR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CHOQU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GEST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1360" y="3947400"/>
              <a:ext cx="4153320" cy="71028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DICADORES DE RACIONALIZAÇÃO 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ASTO E MELHORIA DO DESEMPENH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7960" y="1163520"/>
              <a:ext cx="4824360" cy="367200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55600" y="1235160"/>
            <a:ext cx="360036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Cadernos de Desafios e Prio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6680" y="8031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Áreas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" y="2674800"/>
            <a:ext cx="3600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Cadernos Compromi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36800" y="2243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Secre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9160" y="3467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Secre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600" y="3970440"/>
            <a:ext cx="360036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6320" y="803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ACORDO DE RESULTADOS - 1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"/>
              </a:rPr>
              <a:t>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19368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11240" y="314172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6880" y="507060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Unidades Administrativas e Instituições Vincu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6880" y="5843520"/>
            <a:ext cx="360072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11240" y="47624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83160" y="6026040"/>
            <a:ext cx="4152960" cy="5335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66768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DOBRAMENTO DAS METAS A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EQUIP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7960" y="5267160"/>
            <a:ext cx="4824360" cy="1368720"/>
          </a:xfrm>
          <a:prstGeom prst="rect">
            <a:avLst/>
          </a:prstGeom>
          <a:noFill/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6320" y="4886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ACORDO DE RESULTADOS - 2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"/>
              </a:rPr>
              <a:t>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5373720"/>
            <a:ext cx="4152960" cy="5335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66768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ORDO DE 1ª ETA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3"/>
          <p:cNvGrpSpPr/>
          <p:nvPr/>
        </p:nvGrpSpPr>
        <p:grpSpPr>
          <a:xfrm>
            <a:off x="2411280" y="333360"/>
            <a:ext cx="5400360" cy="4607640"/>
            <a:chOff x="2411280" y="333360"/>
            <a:chExt cx="5400360" cy="4607640"/>
          </a:xfrm>
        </p:grpSpPr>
        <p:sp>
          <p:nvSpPr>
            <p:cNvPr id="268" name="Rectangle 10"/>
            <p:cNvSpPr/>
            <p:nvPr/>
          </p:nvSpPr>
          <p:spPr>
            <a:xfrm>
              <a:off x="2717640" y="893160"/>
              <a:ext cx="4383360" cy="1161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ADOS FINALÍST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ADERNO DE COMPROMISS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736000" y="2197800"/>
              <a:ext cx="2100600" cy="93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UTUR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5002560" y="2197800"/>
              <a:ext cx="2098800" cy="93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NDA 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CHO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GEST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715840" y="3280680"/>
              <a:ext cx="4385160" cy="53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DORES DE RACIONALIZAÇÃO 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2481480" y="682560"/>
              <a:ext cx="4813560" cy="425844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2411280" y="333360"/>
              <a:ext cx="54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Comic Sans MS"/>
                </a:rPr>
                <a:t>ACORDO DE RESULTADOS - 1</a:t>
              </a:r>
              <a:r>
                <a:rPr b="1" lang="en-US" sz="1600" spc="-1" strike="noStrike">
                  <a:solidFill>
                    <a:srgbClr val="cc0000"/>
                  </a:solidFill>
                  <a:latin typeface="Comic Sans MS"/>
                  <a:ea typeface="Arial"/>
                </a:rPr>
                <a:t>ª eta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2730240" y="3931200"/>
              <a:ext cx="434916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DORES DE MELHORIA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DESEMPENHO </a:t>
              </a:r>
              <a:br>
                <a:rPr sz="14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asos pontuais, ex. IPSEMG, AUGE, SE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31"/>
          <p:cNvSpPr/>
          <p:nvPr/>
        </p:nvSpPr>
        <p:spPr>
          <a:xfrm>
            <a:off x="46836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1"/>
          <p:cNvSpPr/>
          <p:nvPr/>
        </p:nvSpPr>
        <p:spPr>
          <a:xfrm>
            <a:off x="111600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1"/>
          <p:cNvSpPr/>
          <p:nvPr/>
        </p:nvSpPr>
        <p:spPr>
          <a:xfrm>
            <a:off x="183672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1"/>
          <p:cNvSpPr/>
          <p:nvPr/>
        </p:nvSpPr>
        <p:spPr>
          <a:xfrm>
            <a:off x="2556000" y="329580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-108000" y="3500280"/>
            <a:ext cx="4175280" cy="3286080"/>
            <a:chOff x="-108000" y="3500280"/>
            <a:chExt cx="4175280" cy="3286080"/>
          </a:xfrm>
        </p:grpSpPr>
        <p:sp>
          <p:nvSpPr>
            <p:cNvPr id="280" name="Rectangle 20"/>
            <p:cNvSpPr/>
            <p:nvPr/>
          </p:nvSpPr>
          <p:spPr>
            <a:xfrm>
              <a:off x="108000" y="3684960"/>
              <a:ext cx="3672000" cy="310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1"/>
            <p:cNvSpPr/>
            <p:nvPr/>
          </p:nvSpPr>
          <p:spPr>
            <a:xfrm>
              <a:off x="-71280" y="4281480"/>
              <a:ext cx="40669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APA ESTRATÉGICO DO ÓRGÃO</a:t>
              </a:r>
              <a:br>
                <a:rPr sz="14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elaborado com base no Caderno de Compromisso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2"/>
            <p:cNvSpPr/>
            <p:nvPr/>
          </p:nvSpPr>
          <p:spPr>
            <a:xfrm>
              <a:off x="-108000" y="378000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BJETIVOS ESTRATÉGICOS DO ÓRG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"/>
            <p:cNvSpPr/>
            <p:nvPr/>
          </p:nvSpPr>
          <p:spPr>
            <a:xfrm>
              <a:off x="-108000" y="5510520"/>
              <a:ext cx="406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INDICADORES DE DESEMPENHO PARA </a:t>
              </a: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 MENSURAÇÃO DE CADA OBJETIVO ESTRATÉGICO DESDOB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2"/>
            <p:cNvSpPr/>
            <p:nvPr/>
          </p:nvSpPr>
          <p:spPr>
            <a:xfrm>
              <a:off x="-108000" y="501192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APA ESTRATÉGICO DESDOBR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5"/>
            <p:cNvSpPr/>
            <p:nvPr/>
          </p:nvSpPr>
          <p:spPr>
            <a:xfrm>
              <a:off x="0" y="641808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ETAS DESDOBRA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0" y="3500280"/>
              <a:ext cx="39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Comic Sans MS"/>
                </a:rPr>
                <a:t>PROCESSO DE DESDOBR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4067280" y="-27000"/>
            <a:ext cx="4752360" cy="824040"/>
            <a:chOff x="4067280" y="-27000"/>
            <a:chExt cx="4752360" cy="824040"/>
          </a:xfrm>
        </p:grpSpPr>
        <p:sp>
          <p:nvSpPr>
            <p:cNvPr id="288" name="AutoShape 18"/>
            <p:cNvSpPr/>
            <p:nvPr/>
          </p:nvSpPr>
          <p:spPr>
            <a:xfrm>
              <a:off x="4067280" y="322200"/>
              <a:ext cx="720360" cy="358920"/>
            </a:xfrm>
            <a:prstGeom prst="rightArrow">
              <a:avLst>
                <a:gd name="adj1" fmla="val 50000"/>
                <a:gd name="adj2" fmla="val 50176"/>
              </a:avLst>
            </a:prstGeom>
            <a:solidFill>
              <a:srgbClr val="92d050"/>
            </a:solidFill>
            <a:ln w="9360">
              <a:solidFill>
                <a:srgbClr val="59595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9"/>
            <p:cNvSpPr/>
            <p:nvPr/>
          </p:nvSpPr>
          <p:spPr>
            <a:xfrm>
              <a:off x="4679640" y="-27000"/>
              <a:ext cx="414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l a participação/responsabilidade de cada equipe de trabalho no cumprimento dos resultados já pactuado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6"/>
          <p:cNvGrpSpPr/>
          <p:nvPr/>
        </p:nvGrpSpPr>
        <p:grpSpPr>
          <a:xfrm>
            <a:off x="3778200" y="1214280"/>
            <a:ext cx="1873440" cy="1390320"/>
            <a:chOff x="3778200" y="1214280"/>
            <a:chExt cx="1873440" cy="1390320"/>
          </a:xfrm>
        </p:grpSpPr>
        <p:sp>
          <p:nvSpPr>
            <p:cNvPr id="291" name="AutoShape 39"/>
            <p:cNvSpPr/>
            <p:nvPr/>
          </p:nvSpPr>
          <p:spPr>
            <a:xfrm>
              <a:off x="4275000" y="121428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3"/>
            <p:cNvSpPr/>
            <p:nvPr/>
          </p:nvSpPr>
          <p:spPr>
            <a:xfrm>
              <a:off x="3778200" y="1231920"/>
              <a:ext cx="1873440" cy="1372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marcos e metas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o Projeto Estruturador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e responsabilidade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a equi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9"/>
          <p:cNvGrpSpPr/>
          <p:nvPr/>
        </p:nvGrpSpPr>
        <p:grpSpPr>
          <a:xfrm>
            <a:off x="5651640" y="1211400"/>
            <a:ext cx="1873080" cy="1374480"/>
            <a:chOff x="5651640" y="1211400"/>
            <a:chExt cx="1873080" cy="1374480"/>
          </a:xfrm>
        </p:grpSpPr>
        <p:sp>
          <p:nvSpPr>
            <p:cNvPr id="294" name="AutoShape 39"/>
            <p:cNvSpPr/>
            <p:nvPr/>
          </p:nvSpPr>
          <p:spPr>
            <a:xfrm>
              <a:off x="6161040" y="1211400"/>
              <a:ext cx="720720" cy="1374480"/>
            </a:xfrm>
            <a:prstGeom prst="downArrow">
              <a:avLst>
                <a:gd name="adj1" fmla="val 50000"/>
                <a:gd name="adj2" fmla="val 399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5651640" y="1274760"/>
              <a:ext cx="187308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indicadores finalísticos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or equipe, qdo possíve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2"/>
          <p:cNvGrpSpPr/>
          <p:nvPr/>
        </p:nvGrpSpPr>
        <p:grpSpPr>
          <a:xfrm>
            <a:off x="7308720" y="1214280"/>
            <a:ext cx="1873440" cy="1374840"/>
            <a:chOff x="7308720" y="1214280"/>
            <a:chExt cx="1873440" cy="1374840"/>
          </a:xfrm>
        </p:grpSpPr>
        <p:sp>
          <p:nvSpPr>
            <p:cNvPr id="297" name="AutoShape 39"/>
            <p:cNvSpPr/>
            <p:nvPr/>
          </p:nvSpPr>
          <p:spPr>
            <a:xfrm>
              <a:off x="7808760" y="121428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7308720" y="1285920"/>
              <a:ext cx="187344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arcela de responsabilidade da equipe na Agenda 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5"/>
          <p:cNvGrpSpPr/>
          <p:nvPr/>
        </p:nvGrpSpPr>
        <p:grpSpPr>
          <a:xfrm>
            <a:off x="4119480" y="5661000"/>
            <a:ext cx="4711680" cy="1067400"/>
            <a:chOff x="4119480" y="5661000"/>
            <a:chExt cx="4711680" cy="1067400"/>
          </a:xfrm>
        </p:grpSpPr>
        <p:sp>
          <p:nvSpPr>
            <p:cNvPr id="300" name="Text Box 19"/>
            <p:cNvSpPr/>
            <p:nvPr/>
          </p:nvSpPr>
          <p:spPr>
            <a:xfrm>
              <a:off x="4690800" y="5661000"/>
              <a:ext cx="4140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l a participação/responsabilidade de cada equipe de trabalho na viabilização da estratégia expressa no Mapa Estratégico do órgã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8"/>
            <p:cNvSpPr/>
            <p:nvPr/>
          </p:nvSpPr>
          <p:spPr>
            <a:xfrm>
              <a:off x="4119480" y="6089400"/>
              <a:ext cx="720720" cy="358920"/>
            </a:xfrm>
            <a:prstGeom prst="rightArrow">
              <a:avLst>
                <a:gd name="adj1" fmla="val 50000"/>
                <a:gd name="adj2" fmla="val 50201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8"/>
          <p:cNvGrpSpPr/>
          <p:nvPr/>
        </p:nvGrpSpPr>
        <p:grpSpPr>
          <a:xfrm>
            <a:off x="4300560" y="4071600"/>
            <a:ext cx="2071800" cy="1445760"/>
            <a:chOff x="4300560" y="4071600"/>
            <a:chExt cx="2071800" cy="1445760"/>
          </a:xfrm>
        </p:grpSpPr>
        <p:sp>
          <p:nvSpPr>
            <p:cNvPr id="303" name="AutoShape 39"/>
            <p:cNvSpPr/>
            <p:nvPr/>
          </p:nvSpPr>
          <p:spPr>
            <a:xfrm rot="10800000">
              <a:off x="4943520" y="407160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300560" y="4357800"/>
              <a:ext cx="2071800" cy="1159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metas elaboradas a partir dos indicadores referenciados nos objetivos estratégicos do órg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1"/>
          <p:cNvGrpSpPr/>
          <p:nvPr/>
        </p:nvGrpSpPr>
        <p:grpSpPr>
          <a:xfrm>
            <a:off x="6649920" y="4065120"/>
            <a:ext cx="2286000" cy="1374840"/>
            <a:chOff x="6649920" y="4065120"/>
            <a:chExt cx="2286000" cy="1374840"/>
          </a:xfrm>
        </p:grpSpPr>
        <p:sp>
          <p:nvSpPr>
            <p:cNvPr id="306" name="AutoShape 39"/>
            <p:cNvSpPr/>
            <p:nvPr/>
          </p:nvSpPr>
          <p:spPr>
            <a:xfrm rot="10800000">
              <a:off x="7507440" y="406512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6649920" y="4279680"/>
              <a:ext cx="2286000" cy="1159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rojetos/ações prioritárias identificadas para o cumprimento dos objetivos estratégicos do órg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38"/>
          <p:cNvSpPr/>
          <p:nvPr/>
        </p:nvSpPr>
        <p:spPr>
          <a:xfrm>
            <a:off x="4211640" y="2813040"/>
            <a:ext cx="47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CONJUNTO DE COMPROMISSOS A SER PACTUADO COM CADA EQUIPE NA</a:t>
            </a:r>
            <a:br>
              <a:rPr sz="1800"/>
            </a:b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2ª. ETAPA DO 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35 0.0638 L -0.31893 -0.12575 E">
                                      <p:cBhvr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8:10:05Z</dcterms:created>
  <dc:creator>Semad</dc:creator>
  <dc:description/>
  <dc:language>en-US</dc:language>
  <cp:lastModifiedBy>teste</cp:lastModifiedBy>
  <dcterms:modified xsi:type="dcterms:W3CDTF">2008-02-18T13:16:25Z</dcterms:modified>
  <cp:revision>524</cp:revision>
  <dc:subject/>
  <dc:title>noções de direito</dc:title>
</cp:coreProperties>
</file>